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076-EFF3-41CD-9A0D-54EED02F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573-57FD-40F7-BF6B-510E8E8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2EF-0322-482F-B08C-6CECF091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AF-24E5-4E41-81DB-6CEBA789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AFF-D4C3-4587-8AAA-F82EA13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B4D-5BE6-4F58-81AC-74B59AF9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556-1943-4105-83A8-77992644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B1F-1CEB-4C1A-B81D-776A033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CC7-0538-4A06-9ADA-53B92E2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DC6-BDB3-4842-BDB2-E535809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CBD-0735-492F-89A1-CDD1E39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434-BD5A-498E-AC52-4679897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558E-A0CD-42F5-8ACC-A0766A8A6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j0309932"/>
          <p:cNvPicPr/>
          <p:nvPr/>
        </p:nvPicPr>
        <p:blipFill>
          <a:blip r:embed="rId1"/>
          <a:stretch/>
        </p:blipFill>
        <p:spPr>
          <a:xfrm>
            <a:off x="3429000" y="2971800"/>
            <a:ext cx="2603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do one s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inning on an axis (like a 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clockwise when viewed from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4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3 hours, 56 mi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174012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6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8"/>
          <p:cNvSpPr/>
          <p:nvPr/>
        </p:nvSpPr>
        <p:spPr>
          <a:xfrm flipH="1">
            <a:off x="4265280" y="1297080"/>
            <a:ext cx="3240" cy="556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because the Earth s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day and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isingSetting"/>
          <p:cNvPicPr/>
          <p:nvPr/>
        </p:nvPicPr>
        <p:blipFill>
          <a:blip r:embed="rId1"/>
          <a:stretch/>
        </p:blipFill>
        <p:spPr>
          <a:xfrm>
            <a:off x="0" y="35812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137160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 flipH="1">
            <a:off x="4341960" y="1373040"/>
            <a:ext cx="2880" cy="5486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shows a planet rot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ResponseCounter"/>
          <p:cNvGrpSpPr/>
          <p:nvPr/>
        </p:nvGrpSpPr>
        <p:grpSpPr>
          <a:xfrm>
            <a:off x="304920" y="3200400"/>
            <a:ext cx="1143000" cy="2374920"/>
            <a:chOff x="304920" y="3200400"/>
            <a:chExt cx="1143000" cy="2374920"/>
          </a:xfrm>
        </p:grpSpPr>
        <p:sp>
          <p:nvSpPr>
            <p:cNvPr id="58" name="RCPole"/>
            <p:cNvSpPr/>
            <p:nvPr/>
          </p:nvSpPr>
          <p:spPr>
            <a:xfrm>
              <a:off x="449280" y="3295440"/>
              <a:ext cx="0" cy="2224440"/>
            </a:xfrm>
            <a:prstGeom prst="line">
              <a:avLst/>
            </a:prstGeom>
            <a:ln w="63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CFlag"/>
            <p:cNvSpPr/>
            <p:nvPr/>
          </p:nvSpPr>
          <p:spPr>
            <a:xfrm>
              <a:off x="487440" y="5213520"/>
              <a:ext cx="960480" cy="33336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Top"/>
            <p:cNvSpPr/>
            <p:nvPr/>
          </p:nvSpPr>
          <p:spPr>
            <a:xfrm>
              <a:off x="304920" y="3200400"/>
              <a:ext cx="288720" cy="1108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Bottom"/>
            <p:cNvSpPr/>
            <p:nvPr/>
          </p:nvSpPr>
          <p:spPr>
            <a:xfrm>
              <a:off x="304920" y="5519880"/>
              <a:ext cx="307800" cy="5544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6308640"/>
          <a:ext cx="8312040" cy="549360"/>
        </p:xfrm>
        <a:graphic>
          <a:graphicData uri="http://schemas.openxmlformats.org/drawingml/2006/table">
            <a:tbl>
              <a:tblPr/>
              <a:tblGrid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0" descr="earth rotation.jpg"/>
          <p:cNvPicPr/>
          <p:nvPr/>
        </p:nvPicPr>
        <p:blipFill>
          <a:blip r:embed="rId1"/>
          <a:stretch/>
        </p:blipFill>
        <p:spPr>
          <a:xfrm>
            <a:off x="5867280" y="1143000"/>
            <a:ext cx="191628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arth_revolution.gif"/>
          <p:cNvPicPr/>
          <p:nvPr/>
        </p:nvPicPr>
        <p:blipFill>
          <a:blip r:embed="rId2"/>
          <a:stretch/>
        </p:blipFill>
        <p:spPr>
          <a:xfrm>
            <a:off x="3276720" y="4089240"/>
            <a:ext cx="5248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ause the Earth rotates we ge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648320" y="1371600"/>
          <a:ext cx="396216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396216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15800" y="6070680"/>
          <a:ext cx="8312400" cy="54936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an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28600" y="380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8:14:54Z</dcterms:created>
  <dc:creator>Jean Kavanagh</dc:creator>
  <dc:description/>
  <dc:language>en-US</dc:language>
  <cp:lastModifiedBy>Jean Kavanagh</cp:lastModifiedBy>
  <dcterms:modified xsi:type="dcterms:W3CDTF">2010-02-18T17:57:43Z</dcterms:modified>
  <cp:revision>12</cp:revision>
  <dc:subject/>
  <dc:title>The Earth in Motion</dc:title>
</cp:coreProperties>
</file>